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691-6F00-4C9F-9CDC-66603BCA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3E3-E2BA-406E-B686-163E2095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CC3-88A7-43F6-B3DF-AE82EEEF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212-DC23-4CB4-B7FA-FE13289B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50F-51F0-4A3F-AF2B-38C9F1C1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4DA-EAB1-453D-8BBD-9D1219FF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E6A-7459-4C6D-A678-64B093EA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5D2-A8C4-4E93-8E13-48B2DEC8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E84-4322-4282-B6FE-2E754A4B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977-D588-4A89-A700-4D6CA389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1B4-6992-420F-9520-35D6EE74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57B-65CB-4829-8061-C50F7F7C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9484-639C-46DF-8E5D-C333B936D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140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MY FOOD PYRAM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What Makes Me Healt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ood pyramid"/>
          <p:cNvPicPr/>
          <p:nvPr/>
        </p:nvPicPr>
        <p:blipFill>
          <a:blip r:embed="rId1"/>
          <a:stretch/>
        </p:blipFill>
        <p:spPr>
          <a:xfrm>
            <a:off x="365760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VEG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Pj04387180000[1]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64184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R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Pj04392920000[1]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479736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Pj04387780000[1]"/>
          <p:cNvPicPr/>
          <p:nvPr/>
        </p:nvPicPr>
        <p:blipFill>
          <a:blip r:embed="rId1"/>
          <a:stretch/>
        </p:blipFill>
        <p:spPr>
          <a:xfrm>
            <a:off x="1219320" y="1447920"/>
            <a:ext cx="6629400" cy="464796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DA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4248540000[1]"/>
          <p:cNvPicPr/>
          <p:nvPr/>
        </p:nvPicPr>
        <p:blipFill>
          <a:blip r:embed="rId1"/>
          <a:stretch/>
        </p:blipFill>
        <p:spPr>
          <a:xfrm>
            <a:off x="457200" y="1981080"/>
            <a:ext cx="2347920" cy="2819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FD01913_0000[1]"/>
          <p:cNvPicPr/>
          <p:nvPr/>
        </p:nvPicPr>
        <p:blipFill>
          <a:blip r:embed="rId2"/>
          <a:stretch/>
        </p:blipFill>
        <p:spPr>
          <a:xfrm>
            <a:off x="6019920" y="1905120"/>
            <a:ext cx="2438280" cy="411480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Arial"/>
              </a:rPr>
              <a:t>GRA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RE6061\Local Settings\Temporary Internet Files\Content.IE5\CLMXM70P\MPj04333220000[1].jpg"/>
          <p:cNvPicPr/>
          <p:nvPr/>
        </p:nvPicPr>
        <p:blipFill>
          <a:blip r:embed="rId1"/>
          <a:stretch/>
        </p:blipFill>
        <p:spPr>
          <a:xfrm>
            <a:off x="1336680" y="1708200"/>
            <a:ext cx="6470640" cy="430992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9:21:31Z</dcterms:created>
  <dc:creator>rtc04</dc:creator>
  <dc:description/>
  <dc:language>en-US</dc:language>
  <cp:lastModifiedBy>LRE6061</cp:lastModifiedBy>
  <dcterms:modified xsi:type="dcterms:W3CDTF">2009-06-19T15:43:54Z</dcterms:modified>
  <cp:revision>3</cp:revision>
  <dc:subject/>
  <dc:title>My Food Pyramid</dc:title>
</cp:coreProperties>
</file>